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jpeg" ContentType="image/jpeg"/>
  <Override PartName="/ppt/media/image5.png" ContentType="image/png"/>
  <Override PartName="/ppt/media/image9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CFE6B-271E-4216-8A11-FC4A18CA83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DF475-822A-40B0-81D5-3B917E13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7E593E-717B-483C-8921-E754C94D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B50054-2EF4-40EC-89CF-69BB38D1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CA68F3-A9FA-4523-B4C3-E04724D1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BCB02A-5CA2-4F06-B1E4-D253E0C6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AAE2F0-641E-4745-8107-71D5F991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2430C0-D04F-4C6F-80F9-3F8773E2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8B991D-3F03-42DF-A16E-5B4AA976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AD9C5B-882C-476D-B6FC-1420CFD6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24BCEF-FBB1-4326-8247-ACA5200A4C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8E0AD-F06A-4978-8935-F92F635EA5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8433D-72E0-4A69-8C17-83FC56F1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3E232-8B81-4130-A5C3-651DDF7C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7F51F-8A63-4F00-924E-EE084704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C84DA-35B9-4DA7-9ADA-6B674B5F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2232A-C1B2-4312-AA9E-2E6D1F70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F45E7-B0B4-43FF-9621-6C033099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EAA60-7453-498D-85B1-7CB6F875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AEAED-C70C-4459-BA28-0AC63818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1744D-9338-45FF-9634-2EEFA5AF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A119D-904D-468D-87F0-6BEE6DDE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BB7CA-98E7-4912-BC6B-2F80C459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0716-4E38-4367-AB4D-AF4E94AC96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98BBD-DC00-49A9-87B8-517C1D8AA4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AA2F50-4AF6-4A66-938A-4A99BCF45E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5EBD48-302B-47AD-985B-F3E58EBA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DFBFF4-3D5E-438A-BFB1-78566C16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BF99CA-2C36-4A84-A282-91732B8B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DD3C04-55C6-4FF9-AC20-FA0AD5F6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C9C697-9718-4309-B7D6-749EC988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90BB3F-BA62-43DE-AE20-7C860CEA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47B94A-0989-473E-A0B5-DC907B6E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4CCD56-9604-4B2E-9E7E-CFD5BBD3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C6FF4-091F-4735-9046-E2E29685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378434-1F0E-4C63-B754-F692852E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4B47CD-CDE8-45E2-B7FA-432D3FC5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2DC891-73F0-4A5D-B51E-2DF8A4FB59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D5CF3-6284-496B-AFD1-E670398E29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17D69-2253-4853-8BC9-8044ADD6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84EC0-981A-43E3-84A7-DA53535E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2E838-B8EB-46F8-8AED-4BC4D336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B59ED-3613-42B3-9868-95556D89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B11AB-408B-4D81-9C21-3AD97C04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5C7AA-B749-41F4-B2C7-C6D273A0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61EB9-4A9E-4F42-BF91-AE68F74E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33BE8-ACE2-410E-8D72-8F97BB4A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277F0-21A6-4A41-B4CA-AE4244D6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ED2CC-66AE-449F-87F2-9BAB2E09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3D7AA-6BE5-4170-9FF8-29564163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E449D-8728-461D-BEB6-7E9679ADF0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1E676-7350-4738-B1CA-193E92E7CB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FC159-0A07-4CA5-8DC9-4630EB96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622D0-B4B0-4DC5-A23F-B1E947D4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D16CC-9644-4CBC-8F7D-34365489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5AFB4-C5C1-47F0-9880-7E9A64E2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DCE18-A1C1-4D2E-B604-9039CDFD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AD457-91B3-4768-BE80-19D395B8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B702D-70A7-4E9F-B3C8-8934961C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AA7F2-9529-4EBA-9851-EE2073E7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E8CBA-135B-48CD-B95A-63A1886A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443A0-4364-42F7-948C-4BA509A7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CDCDB-E1D5-4135-A1ED-45CFF9A3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C0BD8-23B7-4894-964D-9DF401730B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21A61-B424-4949-A04C-FC595662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A0621-4A87-40F1-AE31-171A7B54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CE42F-A506-4AA7-84C4-FF8CDE11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DC222-F955-4F65-9AEB-AF63282A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5007A-CF3A-4463-85AE-FB1F4DAE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FFB90-8BB6-41F2-A673-1A521054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84D73-3842-458D-8A2D-DA8A518F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0ED78-2938-45E9-96D5-86004DBD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EC943-3BF1-4F39-A5AD-958A38E9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C6648-1D9C-470D-9AB7-924626EC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451BE-FEA9-4D99-9636-FE64A640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E3635-D67A-4D88-94C8-F8A21938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8211E-3161-4A71-86A5-077C190E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3F3F2-0882-4103-BF71-F893EC09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FFD86-1042-4AD9-B0A4-1E4BBE7F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439E5-165B-4F0D-9AA7-EBE9BDFE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4BC7B-B133-4437-B53B-E794602E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CC014-3574-4CC6-A733-4C945463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E947A-BB86-4783-8B71-48379CA4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FAD13-4695-4E82-B09F-826717DA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9681F-10FD-4CD1-8375-A8FB0C8A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6F9A8-44D4-4798-A296-9A04E45C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73910-8FA2-4FD3-A9B1-22E4EB66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BE933-32D0-4044-8AA2-B5D5999E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1A526-ABAF-4E31-87E9-64E25B7E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09D98-AAAF-4D3A-A4C5-969A86F9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B8E4C-12B2-4366-8C1F-CB1DD326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7632F-4EAA-4A77-91B3-8531FD12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71056-55FA-4961-8F96-86561ED6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3DED5-4018-49A8-9A82-9DC2890B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9293B-8A98-4D87-9072-FAF257EF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1E045-1AB8-406F-9F6E-5CB4873C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3F59B-85E0-4261-A17C-72BDFB28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CCE3E-0667-4107-A227-CAF91A1A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C2AA9-5F91-4B14-BBDE-670A6E14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F7EFD-AD73-47D1-BE0D-92CD5407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FAC53-0769-4013-B3FB-87C96144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EA1B8-4A12-480C-885B-663C7FA3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EFBBF-DEAA-479B-8FEA-1CFA11AF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8A31D-444B-4976-94C1-B09FE63D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89721-49A1-40CE-BF1A-BD5B8306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8B6A9-F98C-40A0-97E3-FA56EF1C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EF23F-0084-4D3A-81F2-67485AC6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5643F-9EB2-4EC2-AF5B-73F8D595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90B1E-AD66-4109-8377-C7B569B6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507C7-48F6-442F-A5D2-529A8A48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B2F42-52AE-47EC-9443-4C69AA28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333DB-EBA3-40DC-8DE6-37466B8C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CEF92-C4C3-411A-BAEC-935A9813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51916-F78D-4FE1-93CB-31AB7FB9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94C7F-EB65-4F38-91C8-43DB5577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40401-40FD-4CA1-9EA6-756BDB3A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51748-F3C1-4EF5-B793-39E25E5C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BCD26-18FE-4474-9634-893A0FBC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C78697-6E0E-436A-9ED2-51A2C4FE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3BFB9-D8C5-4679-960C-85315D1C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CAB65-B676-45D2-B1F7-48C752A7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04FE0-EE93-402D-A056-1C07AB8A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DEF327-A433-4596-877B-8F4B02FA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5A5A0-D347-4C8A-8126-7341DD70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2A3CEB-7F11-4D43-8E95-5CC1806D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BE905-AB0D-4D47-9B8F-DA2D1935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CDAC5B-9B82-4AFF-8075-5D123657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1CCDB-AE45-45FC-8085-2C0ACFFD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BFD9F5-6238-4C2F-B7E2-1C672715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4AB09-5675-47ED-BFE4-24C617D6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7A079-4ABE-492D-826E-73BE3F68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46ADEE-D591-43B5-AEC5-06DF70BB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EC01A4-4B86-4BAA-BFCB-B95AB924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E4B2A8-6AE1-4ECD-87C9-3B091DE2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14B43-9BCC-4F2F-ABE9-AE2105B7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566ED4-97C4-4046-8343-B48757F2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A6F75-C191-42D5-8EA4-5F70A068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948F9-5965-4B66-80D4-7CF4E786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C642AB-9B44-4805-B1A4-99D6F295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30B096-5303-4568-A471-8E3E0094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F28BF-43AB-40D7-BBC6-6B7C0257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1C705-55ED-4BD3-8A7D-4DC42E48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78C0DF-E990-4B8D-97F6-8EF0CA3C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EBB817-D047-452D-9138-67431996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EB9A2C-9D0E-452F-8801-0D91793E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471E5-1E67-4065-A6D3-FEB8806E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391627-07E0-4D55-9AD9-BDCB6EBB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8AF25-BD51-47DC-AE8B-908519FC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130F68-D39B-4ECB-9558-8FC35F05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F5AE9-B1C5-4449-A9CD-8C4AC008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92748B-CEFC-4A6D-A355-A1184415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AF3E9-97EE-4DD8-A38C-E542F8DF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B1EDBE-6574-4F7C-84C4-8F4A1B82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248D79-9597-479F-B6AA-6C8BAED2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F1D4C-D0E7-42BD-8FC5-2D31680C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B814E-524A-4FC8-A9EA-54464E82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19679-257F-4C1E-82B5-D75D043D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C68149-8A8E-4754-929E-D361FB87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21AA1B-B884-4AA2-8B09-B1759F42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7389B0-64B6-431B-A50C-CF37ACDD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D6F0E-DD53-4D64-B978-869D0BF4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68A5D-15E9-4BB6-ACBB-A0863C28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7D50A8-EC7B-4F6C-A4FB-62106352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FC828E-53D1-42B2-A6F3-284A9972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38F172-4BD2-4394-9EAA-68A83F5E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04059F-7559-4D44-8F92-A22EE577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814BF-4642-4482-8114-C8D9BD4F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7BA34-0864-4EC6-807D-EE42625E42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F3FDF4-5375-4137-90B8-3311F4D6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4219BD-73C0-45D0-8182-4FA3EB23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ADED2-B189-471C-8B94-F66E813C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6610E3-97D3-439B-A760-B920A81C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C2638-C9EB-412F-9093-776934AB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A4CA25-4D15-4BDA-8D3F-A5F12B06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33A9D2-82CD-471B-9E1A-44A7BDB2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6EBDBE-E494-4685-BAA1-AA8A7B9F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AC13DC-DFF5-45A3-9C67-4E6E5DCD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70107-AA5C-46EA-B297-E503ACD0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C030F4-96FF-4861-AC13-B8EF9762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AE7070-010D-4E0B-ACDD-11D8A7C7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AFEEC2-8156-405B-830F-818CDCAA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33E793-69E5-4CE6-84B5-AC08A013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FF1896-9BAB-410F-83F0-8938513B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B607DA-91AF-44D2-9BBE-AC5CFDAC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2F4E4-7DAB-4EB9-9D45-A5FAE885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26A617-140C-46FE-A7C0-79146005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32786B-20C3-4744-B8E2-070D9FAF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0AD77C-4F3F-4056-89D3-FFE9525B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56A23B-E996-4825-AA7D-405FEE59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13848E-FD25-47B9-B835-5966176C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C069DA-BBD4-43A4-A5ED-41E51C4E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C4174-AC74-40FB-B26F-C1B6BE6D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8B2A35-747D-4B64-8E9D-30DA4010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BDEB3E-C9AA-4DB2-9E27-E68447FE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E11AC8-3F35-451D-BCD9-9CB4014B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BE1585-9E85-4588-AAE9-BD613321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1F4777-D9DC-48D8-B706-7B2554CA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D36CB9-6AA0-4310-94F6-B744CACA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A2799B-E174-40A3-B122-F2590760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DA7565-2D30-4F70-8DD3-0A20F695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60DBDD-B857-4915-AE0B-B05D99C1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10CAE5-CB40-4BA2-AEEE-3923FA42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CB532B-9404-4A41-977F-1B1D2894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1B5DAC-EA4F-4053-96B2-29BC777F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2FB729-5FD3-4FA9-BA96-BE4AF69E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FEC736-CB99-450B-9F23-2789A023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9C765A-F50E-48D1-B01A-46D0D1CB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58F67A-0B2C-4200-B7E0-816896CC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EE1F78-FD9F-4B69-8E78-130882F1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EDE335-C82B-4ADF-8074-E4C54321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88E104-2223-43C4-B78C-A43C491C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8F30A-720C-4621-97C6-61DDB13E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59588-BF7E-4B4F-A416-FB4B5C4B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FE8ADF-901A-4497-93FA-004B2AE0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8E1A43-B313-4A5A-BAF9-6921B781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3368A1-7140-497A-A3F6-3D92DE10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E89050-8A2E-4F6B-B6F1-E7380865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05BC51-54F9-46CA-8D1D-0A575D0A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E34E6B-E910-4BD8-8665-380DBA5BB9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66C7-BA57-4A0F-988C-D651A4B5CA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192E2-632E-42FC-85CA-B17E88C5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2421A-5FAE-4E1D-A73F-BAE28887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2E34-B084-4C36-882B-FACA760C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C83B-362C-494C-AA80-D0BB6F1B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D2F07-5A37-471E-9184-3C7610EB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59FA0-D7EA-4F20-86DC-20DFE60F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0C868-52F5-4671-BA22-D3E3327B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17CE7-D299-4E45-81C9-3826CA56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75F15-A2B2-4C31-858E-43B95DA7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CCD6C-4548-4187-BB04-8FB0FF52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23C9-6299-4AA0-AE4A-BCCF76C1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71149-E584-4D99-865D-D21A92ACE1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C9F0B-FC7F-4AFE-AB8F-41F73F8EA8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6991-272C-4C36-B6F8-5DC05100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C9FF72-043C-40E1-AD59-517A429D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ABFCE-85D8-4966-83B9-7CFCDF60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2B636-7719-478A-A2C2-44A32AB2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65D633-4B3C-4D10-AAC6-F45DA45C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AD6D20-50A5-4AE3-B08D-64E32648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456E58-180D-4D31-815B-F576408E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49993-4663-4534-95FE-6A2BBB69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ED051-6CB4-4998-8469-1D60C418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E4287A-AB96-4447-94EC-98C973FF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2C878-2DC8-416B-AEF8-6057F49C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E946B-21C9-4A32-978C-8DBE05AB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854FEE-F177-49CC-A6D0-518F997290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1B5789-082D-4910-BDBD-10F1AD577D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FE0108-A679-4AB3-B77F-F3AEDE2D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5AD19C-F5BB-45B8-A2DA-074463DF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81B0F2-5A9D-43C6-994E-20812BEC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CDA094-C771-4224-B4A0-F7CE3FD4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7BF118-A2E9-420C-B26F-2EBE992E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A5540B-B1F1-431E-8032-EC33AB1C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123DB6-2B67-4196-AEE3-559FC70E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A4A27D-F22E-4828-AE62-A3196549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93825-72C3-485A-A797-7B704FC0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5D4D88-B69A-408E-9402-535C4DDA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3B1BF1-740D-439F-9BBD-60878FDB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8F4722-3BEB-4ACD-B15C-F5C8017425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6C8A6-0B66-43B5-91D1-2FEC204ED9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A8FE5-B83E-4A5B-B6A6-9283749E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3F9A1-E2AC-4C99-82FF-EA10E122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59F5D-29AD-41D2-ACC2-26D19FFE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F76E6-7338-419E-A2AB-BA3A8290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CF30-ACCB-4D23-941C-E71BE5F0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CC944-53BD-4EAC-80C6-A43D1080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5639-6450-4089-BF65-B35F49A5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6EE21-B19E-4D3B-8329-523C3FF8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3ACA5-A749-4383-A9DF-ADD5A78A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FE75D-0259-4044-8E03-92D4ECA1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C87D2-BC55-43B8-934B-D515BC66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EA630-EBA2-4D26-9568-5030A9C7F2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D5654-FD72-482C-B240-3144317424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FB5380-BE14-4C18-9623-01682FDE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BA96E7-3BB8-4A74-B684-8CC9E881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6748B3-5F3F-49B2-BE7F-E0B01235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23CC37-D166-44D3-8368-84970C0D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0C62-24DB-4AD1-9B38-9921D28A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54E00-7F29-4431-BFD1-82670EA7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F5BC7-66D1-4C28-AF30-6D5457A3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C6DD9F-71EC-43BE-9A27-7E371D18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DA0AA5-4198-4B5C-845F-CAEDC3CB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229DC1-40D0-4330-B18A-4BF52811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DDB76-68CD-4E75-9014-8ACEF04F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1FFABF-47FD-4D45-8C86-E02424B93A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60A017-966C-4240-B67F-69315C438E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61003A-520A-4C23-8690-C49E856F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DA3B2B-555C-4E6B-94CB-9737CB38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E701-A957-4A6A-84E5-EF6C33340F0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79EB-EA2B-4D96-85F3-AC1CA66800F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3D8A-9C60-4AA7-8D94-86C0482D784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6985-A8A9-4BB3-908D-7186B0FD2B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63AF-8AE7-4690-9F55-5CF6A8EFBEB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151A-DC68-4D34-B63F-D15F74B5A9E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41B4-3303-4556-ADFE-128A655601C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05C6-85C5-4952-AAA9-8727C058BF9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94B0-40E2-49E3-B60D-DD6CC86EE23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B07A-1273-444B-892A-3CD2ED5BAAE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DCCE-4145-4944-ACDD-479348FDA8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A5F4-9F5F-48F2-ACE4-30ACADEE136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726F-E4A8-4881-AAE8-B3DBD8B3BD7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A490-13F5-4064-BEF5-3BE13B1DD73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3761-2E75-4F31-9481-89398ACA820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D291-87DE-4A2F-BE25-D22AEFFD25A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B728-25BA-4171-9765-964749E747B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6251-0BE0-4B71-BF55-3A3B92E2D53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833B-896E-44E5-B379-6179C78C26E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8D42-D4CF-441E-95F3-B7C5417919E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6204-CC62-4DE8-BF4F-E4C7A9F6F6C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9ED0-0DD7-41C8-85C5-55BC96EF96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A864-976C-46A2-867D-1B3DA2F5E5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9835-E736-46EC-8D58-4C2256B62F1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535040" y="2689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商 是 一 位 数 的 除 法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5621040" cy="360"/>
            <a:chOff x="2284560" y="2448000"/>
            <a:chExt cx="562104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562104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562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68120" y="1744560"/>
            <a:ext cx="793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数是两位数的除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101520"/>
            <a:ext cx="5456160" cy="525600"/>
            <a:chOff x="-50760" y="101520"/>
            <a:chExt cx="545616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222120" y="101520"/>
              <a:ext cx="51832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96560"/>
              <a:ext cx="730080" cy="273960"/>
              <a:chOff x="-50760" y="196560"/>
              <a:chExt cx="730080" cy="27396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33640" y="348480"/>
                <a:ext cx="106560" cy="13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436320" y="277920"/>
                <a:ext cx="243000" cy="7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33640" y="211680"/>
                <a:ext cx="106560" cy="13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436320" y="205920"/>
                <a:ext cx="243000" cy="7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288360"/>
                <a:ext cx="6519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70360"/>
                <a:ext cx="6519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4560"/>
                <a:ext cx="6519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96560"/>
                <a:ext cx="651960" cy="64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1"/>
          <p:cNvSpPr/>
          <p:nvPr/>
        </p:nvSpPr>
        <p:spPr>
          <a:xfrm>
            <a:off x="757080" y="117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自主探究，学习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2"/>
          <p:cNvSpPr/>
          <p:nvPr/>
        </p:nvSpPr>
        <p:spPr>
          <a:xfrm>
            <a:off x="428760" y="641520"/>
            <a:ext cx="105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学校礼堂每排有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个座位，四年级共有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97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人，可以坐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几排？还剩几人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八边形 7"/>
          <p:cNvSpPr/>
          <p:nvPr/>
        </p:nvSpPr>
        <p:spPr>
          <a:xfrm>
            <a:off x="168120" y="76824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3"/>
          <p:cNvSpPr/>
          <p:nvPr/>
        </p:nvSpPr>
        <p:spPr>
          <a:xfrm>
            <a:off x="593640" y="1886040"/>
            <a:ext cx="17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b0f0"/>
                </a:solidFill>
                <a:latin typeface="Arial"/>
                <a:ea typeface="宋体"/>
              </a:rPr>
              <a:t>理解题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缺角矩形 37"/>
          <p:cNvSpPr/>
          <p:nvPr/>
        </p:nvSpPr>
        <p:spPr>
          <a:xfrm>
            <a:off x="492120" y="2006640"/>
            <a:ext cx="216000" cy="216000"/>
          </a:xfrm>
          <a:custGeom>
            <a:avLst/>
            <a:gdLst>
              <a:gd name="textAreaLeft" fmla="*/ 25200 w 216000"/>
              <a:gd name="textAreaRight" fmla="*/ 190800 w 216000"/>
              <a:gd name="textAreaTop" fmla="*/ 25200 h 216000"/>
              <a:gd name="textAreaBottom" fmla="*/ 190800 h 216000"/>
            </a:gdLst>
            <a:ahLst/>
            <a:rect l="textAreaLeft" t="textAreaTop" r="textAreaRight" b="textAreaBottom"/>
            <a:pathLst>
              <a:path w="216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00" y="2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b0f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文本框 2"/>
          <p:cNvSpPr/>
          <p:nvPr/>
        </p:nvSpPr>
        <p:spPr>
          <a:xfrm>
            <a:off x="762120" y="2251080"/>
            <a:ext cx="79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学校礼堂每排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座位，四年级共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，求可以坐满几排，还剩几人，就是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里面有多少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用除法列式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商是几，就是能坐满几排，余数是几就是还剩几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Box 3"/>
          <p:cNvSpPr/>
          <p:nvPr/>
        </p:nvSpPr>
        <p:spPr>
          <a:xfrm>
            <a:off x="2286000" y="1498680"/>
            <a:ext cx="91440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97÷28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组合 13"/>
          <p:cNvGrpSpPr/>
          <p:nvPr/>
        </p:nvGrpSpPr>
        <p:grpSpPr>
          <a:xfrm>
            <a:off x="2986200" y="1855800"/>
            <a:ext cx="5484600" cy="1271520"/>
            <a:chOff x="2986200" y="1855800"/>
            <a:chExt cx="5484600" cy="1271520"/>
          </a:xfrm>
        </p:grpSpPr>
        <p:pic>
          <p:nvPicPr>
            <p:cNvPr id="1017" name="图片 6" descr="E:\2017秋上·黄倩\其他\人\蜜蜂.gif蜜蜂"/>
            <p:cNvPicPr/>
            <p:nvPr/>
          </p:nvPicPr>
          <p:blipFill>
            <a:blip r:embed="rId1"/>
            <a:stretch/>
          </p:blipFill>
          <p:spPr>
            <a:xfrm>
              <a:off x="7693200" y="1855800"/>
              <a:ext cx="7776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TextBox 4"/>
            <p:cNvSpPr/>
            <p:nvPr/>
          </p:nvSpPr>
          <p:spPr>
            <a:xfrm>
              <a:off x="2986200" y="2212920"/>
              <a:ext cx="914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除数</a:t>
              </a: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“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28</a:t>
              </a: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”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的个位上是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8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，应该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把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28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看作多少来试商呢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圆角矩形标注 5"/>
            <p:cNvSpPr/>
            <p:nvPr/>
          </p:nvSpPr>
          <p:spPr>
            <a:xfrm>
              <a:off x="2986200" y="2212920"/>
              <a:ext cx="4500000" cy="857160"/>
            </a:xfrm>
            <a:prstGeom prst="wedgeRoundRectCallout">
              <a:avLst>
                <a:gd name="adj1" fmla="val 53990"/>
                <a:gd name="adj2" fmla="val -40263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12"/>
          <p:cNvGrpSpPr/>
          <p:nvPr/>
        </p:nvGrpSpPr>
        <p:grpSpPr>
          <a:xfrm>
            <a:off x="314280" y="3227400"/>
            <a:ext cx="4043520" cy="985680"/>
            <a:chOff x="314280" y="3227400"/>
            <a:chExt cx="4043520" cy="985680"/>
          </a:xfrm>
        </p:grpSpPr>
        <p:pic>
          <p:nvPicPr>
            <p:cNvPr id="1021" name="图片 11" descr="E:\2017秋上·黄倩\其他\人\海豚.jpg海豚"/>
            <p:cNvPicPr/>
            <p:nvPr/>
          </p:nvPicPr>
          <p:blipFill>
            <a:blip r:embed="rId2"/>
            <a:stretch/>
          </p:blipFill>
          <p:spPr>
            <a:xfrm>
              <a:off x="314280" y="3298680"/>
              <a:ext cx="740520" cy="9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TextBox 9"/>
            <p:cNvSpPr/>
            <p:nvPr/>
          </p:nvSpPr>
          <p:spPr>
            <a:xfrm>
              <a:off x="1298160" y="3227400"/>
              <a:ext cx="9144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把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28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看作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30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，先试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6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圆角矩形标注 10"/>
            <p:cNvSpPr/>
            <p:nvPr/>
          </p:nvSpPr>
          <p:spPr>
            <a:xfrm>
              <a:off x="1298160" y="3260520"/>
              <a:ext cx="3059640" cy="466560"/>
            </a:xfrm>
            <a:prstGeom prst="wedgeRoundRectCallout">
              <a:avLst>
                <a:gd name="adj1" fmla="val -56134"/>
                <a:gd name="adj2" fmla="val 44574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组合 28"/>
          <p:cNvGrpSpPr/>
          <p:nvPr/>
        </p:nvGrpSpPr>
        <p:grpSpPr>
          <a:xfrm>
            <a:off x="2214720" y="3998880"/>
            <a:ext cx="4071960" cy="2286000"/>
            <a:chOff x="2214720" y="3998880"/>
            <a:chExt cx="4071960" cy="2286000"/>
          </a:xfrm>
        </p:grpSpPr>
        <p:sp>
          <p:nvSpPr>
            <p:cNvPr id="1025" name="圆角矩形 14"/>
            <p:cNvSpPr/>
            <p:nvPr/>
          </p:nvSpPr>
          <p:spPr>
            <a:xfrm>
              <a:off x="2214720" y="3998880"/>
              <a:ext cx="4071960" cy="2286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6" name="组合 26"/>
            <p:cNvGrpSpPr/>
            <p:nvPr/>
          </p:nvGrpSpPr>
          <p:grpSpPr>
            <a:xfrm>
              <a:off x="2263680" y="4025520"/>
              <a:ext cx="1593720" cy="1473480"/>
              <a:chOff x="2263680" y="4025520"/>
              <a:chExt cx="1593720" cy="1473480"/>
            </a:xfrm>
          </p:grpSpPr>
          <p:pic>
            <p:nvPicPr>
              <p:cNvPr id="1027" name="图片 8" descr="65.jpg"/>
              <p:cNvPicPr/>
              <p:nvPr/>
            </p:nvPicPr>
            <p:blipFill>
              <a:blip r:embed="rId3"/>
              <a:stretch/>
            </p:blipFill>
            <p:spPr>
              <a:xfrm>
                <a:off x="2357280" y="4141440"/>
                <a:ext cx="1500120" cy="13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8" name="TextBox 15"/>
              <p:cNvSpPr/>
              <p:nvPr/>
            </p:nvSpPr>
            <p:spPr>
              <a:xfrm>
                <a:off x="2263680" y="4025520"/>
                <a:ext cx="50004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30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9" name="组合 27"/>
          <p:cNvGrpSpPr/>
          <p:nvPr/>
        </p:nvGrpSpPr>
        <p:grpSpPr>
          <a:xfrm>
            <a:off x="3967200" y="4025880"/>
            <a:ext cx="2104920" cy="1171440"/>
            <a:chOff x="3967200" y="4025880"/>
            <a:chExt cx="2104920" cy="1171440"/>
          </a:xfrm>
        </p:grpSpPr>
        <p:pic>
          <p:nvPicPr>
            <p:cNvPr id="1030" name="图片 7" descr="66.jpg"/>
            <p:cNvPicPr/>
            <p:nvPr/>
          </p:nvPicPr>
          <p:blipFill>
            <a:blip r:embed="rId4"/>
            <a:stretch/>
          </p:blipFill>
          <p:spPr>
            <a:xfrm>
              <a:off x="4572000" y="4141800"/>
              <a:ext cx="150012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TextBox 16"/>
            <p:cNvSpPr/>
            <p:nvPr/>
          </p:nvSpPr>
          <p:spPr>
            <a:xfrm>
              <a:off x="4489560" y="402588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右箭头 17"/>
            <p:cNvSpPr/>
            <p:nvPr/>
          </p:nvSpPr>
          <p:spPr>
            <a:xfrm>
              <a:off x="3967200" y="4785120"/>
              <a:ext cx="500040" cy="142920"/>
            </a:xfrm>
            <a:prstGeom prst="rightArrow">
              <a:avLst>
                <a:gd name="adj1" fmla="val 50000"/>
                <a:gd name="adj2" fmla="val 49873"/>
              </a:avLst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TextBox 18"/>
          <p:cNvSpPr/>
          <p:nvPr/>
        </p:nvSpPr>
        <p:spPr>
          <a:xfrm>
            <a:off x="2714760" y="5584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商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6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小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19"/>
          <p:cNvSpPr/>
          <p:nvPr/>
        </p:nvSpPr>
        <p:spPr>
          <a:xfrm>
            <a:off x="5086440" y="5584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改商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7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组合 29"/>
          <p:cNvGrpSpPr/>
          <p:nvPr/>
        </p:nvGrpSpPr>
        <p:grpSpPr>
          <a:xfrm>
            <a:off x="5214960" y="2905200"/>
            <a:ext cx="3651120" cy="1365120"/>
            <a:chOff x="5214960" y="2905200"/>
            <a:chExt cx="3651120" cy="1365120"/>
          </a:xfrm>
        </p:grpSpPr>
        <p:pic>
          <p:nvPicPr>
            <p:cNvPr id="1036" name="图片 24" descr="0.gif"/>
            <p:cNvPicPr/>
            <p:nvPr/>
          </p:nvPicPr>
          <p:blipFill>
            <a:blip r:embed="rId5"/>
            <a:stretch/>
          </p:blipFill>
          <p:spPr>
            <a:xfrm>
              <a:off x="7572960" y="2905200"/>
              <a:ext cx="1293120" cy="13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7" name="组合 20"/>
            <p:cNvGrpSpPr/>
            <p:nvPr/>
          </p:nvGrpSpPr>
          <p:grpSpPr>
            <a:xfrm>
              <a:off x="5214960" y="3284640"/>
              <a:ext cx="2559240" cy="985680"/>
              <a:chOff x="5214960" y="3284640"/>
              <a:chExt cx="2559240" cy="985680"/>
            </a:xfrm>
          </p:grpSpPr>
          <p:sp>
            <p:nvSpPr>
              <p:cNvPr id="1038" name="TextBox 22"/>
              <p:cNvSpPr/>
              <p:nvPr/>
            </p:nvSpPr>
            <p:spPr>
              <a:xfrm>
                <a:off x="5214960" y="3284640"/>
                <a:ext cx="9144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请把这道题做完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圆角矩形标注 23"/>
              <p:cNvSpPr/>
              <p:nvPr/>
            </p:nvSpPr>
            <p:spPr>
              <a:xfrm>
                <a:off x="5214960" y="3317760"/>
                <a:ext cx="2559240" cy="466560"/>
              </a:xfrm>
              <a:prstGeom prst="wedgeRoundRectCallout">
                <a:avLst>
                  <a:gd name="adj1" fmla="val 48018"/>
                  <a:gd name="adj2" fmla="val 73250"/>
                  <a:gd name="adj3" fmla="val 16667"/>
                </a:avLst>
              </a:prstGeom>
              <a:noFill/>
              <a:ln w="25560">
                <a:solidFill>
                  <a:srgbClr val="395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0" name="TextBox 25"/>
          <p:cNvSpPr/>
          <p:nvPr/>
        </p:nvSpPr>
        <p:spPr>
          <a:xfrm>
            <a:off x="5083200" y="476244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  9  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Box 30"/>
          <p:cNvSpPr/>
          <p:nvPr/>
        </p:nvSpPr>
        <p:spPr>
          <a:xfrm>
            <a:off x="3786120" y="151452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38"/>
          <p:cNvGrpSpPr/>
          <p:nvPr/>
        </p:nvGrpSpPr>
        <p:grpSpPr>
          <a:xfrm>
            <a:off x="490680" y="874800"/>
            <a:ext cx="2147400" cy="459720"/>
            <a:chOff x="490680" y="874800"/>
            <a:chExt cx="2147400" cy="459720"/>
          </a:xfrm>
        </p:grpSpPr>
        <p:sp>
          <p:nvSpPr>
            <p:cNvPr id="1043" name="TextBox 3"/>
            <p:cNvSpPr/>
            <p:nvPr/>
          </p:nvSpPr>
          <p:spPr>
            <a:xfrm>
              <a:off x="595080" y="87480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缺角矩形 40"/>
            <p:cNvSpPr/>
            <p:nvPr/>
          </p:nvSpPr>
          <p:spPr>
            <a:xfrm>
              <a:off x="490680" y="99540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组合 4"/>
          <p:cNvGrpSpPr/>
          <p:nvPr/>
        </p:nvGrpSpPr>
        <p:grpSpPr>
          <a:xfrm>
            <a:off x="142920" y="1073160"/>
            <a:ext cx="4538520" cy="1214280"/>
            <a:chOff x="142920" y="1073160"/>
            <a:chExt cx="4538520" cy="1214280"/>
          </a:xfrm>
        </p:grpSpPr>
        <p:pic>
          <p:nvPicPr>
            <p:cNvPr id="1046" name="图片 3" descr="000.gif"/>
            <p:cNvPicPr/>
            <p:nvPr/>
          </p:nvPicPr>
          <p:blipFill>
            <a:blip r:embed="rId1"/>
            <a:stretch/>
          </p:blipFill>
          <p:spPr>
            <a:xfrm flipH="1">
              <a:off x="142920" y="1073160"/>
              <a:ext cx="11023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TextBox 1"/>
            <p:cNvSpPr/>
            <p:nvPr/>
          </p:nvSpPr>
          <p:spPr>
            <a:xfrm>
              <a:off x="1214280" y="114444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算得对吗？请验算一下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圆角矩形标注 2"/>
            <p:cNvSpPr/>
            <p:nvPr/>
          </p:nvSpPr>
          <p:spPr>
            <a:xfrm>
              <a:off x="1252440" y="1144440"/>
              <a:ext cx="3429000" cy="500040"/>
            </a:xfrm>
            <a:prstGeom prst="wedgeRoundRectCallout">
              <a:avLst>
                <a:gd name="adj1" fmla="val -50749"/>
                <a:gd name="adj2" fmla="val 93717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圆角矩形 5"/>
          <p:cNvSpPr/>
          <p:nvPr/>
        </p:nvSpPr>
        <p:spPr>
          <a:xfrm>
            <a:off x="5000760" y="787320"/>
            <a:ext cx="3286080" cy="2000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组合 14"/>
          <p:cNvGrpSpPr/>
          <p:nvPr/>
        </p:nvGrpSpPr>
        <p:grpSpPr>
          <a:xfrm>
            <a:off x="5443560" y="787320"/>
            <a:ext cx="2057400" cy="1571760"/>
            <a:chOff x="5443560" y="787320"/>
            <a:chExt cx="2057400" cy="1571760"/>
          </a:xfrm>
        </p:grpSpPr>
        <p:sp>
          <p:nvSpPr>
            <p:cNvPr id="1051" name="TextBox 6"/>
            <p:cNvSpPr/>
            <p:nvPr/>
          </p:nvSpPr>
          <p:spPr>
            <a:xfrm>
              <a:off x="5443560" y="135900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算：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组合 13"/>
            <p:cNvGrpSpPr/>
            <p:nvPr/>
          </p:nvGrpSpPr>
          <p:grpSpPr>
            <a:xfrm>
              <a:off x="6215040" y="787320"/>
              <a:ext cx="1285920" cy="1571760"/>
              <a:chOff x="6215040" y="787320"/>
              <a:chExt cx="1285920" cy="1571760"/>
            </a:xfrm>
          </p:grpSpPr>
          <p:sp>
            <p:nvSpPr>
              <p:cNvPr id="1053" name="TextBox 7"/>
              <p:cNvSpPr/>
              <p:nvPr/>
            </p:nvSpPr>
            <p:spPr>
              <a:xfrm>
                <a:off x="6357600" y="787320"/>
                <a:ext cx="91440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 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2  8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×      7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1  9  6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+       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1  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9  7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"/>
              <p:cNvGrpSpPr/>
              <p:nvPr/>
            </p:nvGrpSpPr>
            <p:grpSpPr>
              <a:xfrm>
                <a:off x="6429240" y="1611360"/>
                <a:ext cx="1071720" cy="360"/>
                <a:chOff x="6429240" y="1611360"/>
                <a:chExt cx="1071720" cy="360"/>
              </a:xfrm>
            </p:grpSpPr>
            <p:sp>
              <p:nvSpPr>
                <p:cNvPr id="1055" name="直接连接符 9"/>
                <p:cNvSpPr/>
                <p:nvPr/>
              </p:nvSpPr>
              <p:spPr>
                <a:xfrm>
                  <a:off x="6429240" y="1611360"/>
                  <a:ext cx="1071720" cy="0"/>
                </a:xfrm>
                <a:prstGeom prst="line">
                  <a:avLst/>
                </a:prstGeom>
                <a:ln w="190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 txBox="1"/>
                <p:nvPr/>
              </p:nvSpPr>
              <p:spPr>
                <a:xfrm>
                  <a:off x="6429240" y="1611360"/>
                  <a:ext cx="1071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6215040" y="2348280"/>
                <a:ext cx="1285920" cy="10800"/>
                <a:chOff x="6215040" y="2348280"/>
                <a:chExt cx="1285920" cy="10800"/>
              </a:xfrm>
            </p:grpSpPr>
            <p:sp>
              <p:nvSpPr>
                <p:cNvPr id="1058" name="直接连接符 12"/>
                <p:cNvSpPr/>
                <p:nvPr/>
              </p:nvSpPr>
              <p:spPr>
                <a:xfrm flipV="1">
                  <a:off x="6215040" y="2348280"/>
                  <a:ext cx="1285920" cy="10800"/>
                </a:xfrm>
                <a:prstGeom prst="line">
                  <a:avLst/>
                </a:prstGeom>
                <a:ln w="190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 txBox="1"/>
                <p:nvPr/>
              </p:nvSpPr>
              <p:spPr>
                <a:xfrm rot="10800000">
                  <a:off x="6215040" y="2348280"/>
                  <a:ext cx="1285920" cy="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60" name="组合 41"/>
          <p:cNvGrpSpPr/>
          <p:nvPr/>
        </p:nvGrpSpPr>
        <p:grpSpPr>
          <a:xfrm>
            <a:off x="561960" y="3484440"/>
            <a:ext cx="2149560" cy="459720"/>
            <a:chOff x="561960" y="3484440"/>
            <a:chExt cx="2149560" cy="459720"/>
          </a:xfrm>
        </p:grpSpPr>
        <p:sp>
          <p:nvSpPr>
            <p:cNvPr id="1061" name="TextBox 3"/>
            <p:cNvSpPr/>
            <p:nvPr/>
          </p:nvSpPr>
          <p:spPr>
            <a:xfrm>
              <a:off x="666720" y="3484440"/>
              <a:ext cx="204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规范解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缺角矩形 43"/>
            <p:cNvSpPr/>
            <p:nvPr/>
          </p:nvSpPr>
          <p:spPr>
            <a:xfrm>
              <a:off x="561960" y="3605040"/>
              <a:ext cx="216000" cy="215640"/>
            </a:xfrm>
            <a:custGeom>
              <a:avLst/>
              <a:gdLst>
                <a:gd name="textAreaLeft" fmla="*/ 25200 w 216000"/>
                <a:gd name="textAreaRight" fmla="*/ 190800 w 21600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36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36" y="21600"/>
                  </a:lnTo>
                  <a:arcTo wR="3600" hR="3600" stAng="10800000" swAng="5400000"/>
                  <a:lnTo>
                    <a:pt x="21636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文本框 1"/>
          <p:cNvSpPr/>
          <p:nvPr/>
        </p:nvSpPr>
        <p:spPr>
          <a:xfrm>
            <a:off x="711360" y="4094280"/>
            <a:ext cx="70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=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排）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：一共可以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排，还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19" descr="67.jpg"/>
          <p:cNvPicPr/>
          <p:nvPr/>
        </p:nvPicPr>
        <p:blipFill>
          <a:blip r:embed="rId1"/>
          <a:stretch/>
        </p:blipFill>
        <p:spPr>
          <a:xfrm>
            <a:off x="708120" y="1322280"/>
            <a:ext cx="7500960" cy="455760"/>
          </a:xfrm>
          <a:prstGeom prst="rect">
            <a:avLst/>
          </a:prstGeom>
          <a:ln w="0">
            <a:noFill/>
          </a:ln>
        </p:spPr>
      </p:pic>
      <p:grpSp>
        <p:nvGrpSpPr>
          <p:cNvPr id="1065" name="组合 20"/>
          <p:cNvGrpSpPr/>
          <p:nvPr/>
        </p:nvGrpSpPr>
        <p:grpSpPr>
          <a:xfrm>
            <a:off x="1217520" y="912960"/>
            <a:ext cx="914400" cy="1143360"/>
            <a:chOff x="1217520" y="912960"/>
            <a:chExt cx="914400" cy="1143360"/>
          </a:xfrm>
        </p:grpSpPr>
        <p:sp>
          <p:nvSpPr>
            <p:cNvPr id="1066" name="TextBox 21"/>
            <p:cNvSpPr/>
            <p:nvPr/>
          </p:nvSpPr>
          <p:spPr>
            <a:xfrm>
              <a:off x="1217520" y="91296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1274400" y="2055960"/>
              <a:ext cx="714600" cy="360"/>
              <a:chOff x="1274400" y="2055960"/>
              <a:chExt cx="714600" cy="360"/>
            </a:xfrm>
          </p:grpSpPr>
          <p:sp>
            <p:nvSpPr>
              <p:cNvPr id="1068" name="直接连接符 22"/>
              <p:cNvSpPr/>
              <p:nvPr/>
            </p:nvSpPr>
            <p:spPr>
              <a:xfrm>
                <a:off x="1274400" y="2055960"/>
                <a:ext cx="71460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 txBox="1"/>
              <p:nvPr/>
            </p:nvSpPr>
            <p:spPr>
              <a:xfrm>
                <a:off x="1274400" y="2055960"/>
                <a:ext cx="7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0" name="组合 23"/>
          <p:cNvGrpSpPr/>
          <p:nvPr/>
        </p:nvGrpSpPr>
        <p:grpSpPr>
          <a:xfrm>
            <a:off x="3036960" y="912960"/>
            <a:ext cx="914400" cy="1143360"/>
            <a:chOff x="3036960" y="912960"/>
            <a:chExt cx="914400" cy="1143360"/>
          </a:xfrm>
        </p:grpSpPr>
        <p:sp>
          <p:nvSpPr>
            <p:cNvPr id="1071" name="TextBox 24"/>
            <p:cNvSpPr/>
            <p:nvPr/>
          </p:nvSpPr>
          <p:spPr>
            <a:xfrm>
              <a:off x="3036960" y="91296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 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3093840" y="2055960"/>
              <a:ext cx="714600" cy="360"/>
              <a:chOff x="3093840" y="2055960"/>
              <a:chExt cx="714600" cy="360"/>
            </a:xfrm>
          </p:grpSpPr>
          <p:sp>
            <p:nvSpPr>
              <p:cNvPr id="1073" name="直接连接符 25"/>
              <p:cNvSpPr/>
              <p:nvPr/>
            </p:nvSpPr>
            <p:spPr>
              <a:xfrm>
                <a:off x="3093840" y="2055960"/>
                <a:ext cx="71460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 txBox="1"/>
              <p:nvPr/>
            </p:nvSpPr>
            <p:spPr>
              <a:xfrm>
                <a:off x="3093840" y="2055960"/>
                <a:ext cx="7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组合 26"/>
          <p:cNvGrpSpPr/>
          <p:nvPr/>
        </p:nvGrpSpPr>
        <p:grpSpPr>
          <a:xfrm>
            <a:off x="4890960" y="912960"/>
            <a:ext cx="1181160" cy="1143360"/>
            <a:chOff x="4890960" y="912960"/>
            <a:chExt cx="1181160" cy="1143360"/>
          </a:xfrm>
        </p:grpSpPr>
        <p:sp>
          <p:nvSpPr>
            <p:cNvPr id="1076" name="TextBox 27"/>
            <p:cNvSpPr/>
            <p:nvPr/>
          </p:nvSpPr>
          <p:spPr>
            <a:xfrm>
              <a:off x="4890960" y="912960"/>
              <a:ext cx="914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 3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4947840" y="2055960"/>
              <a:ext cx="1124280" cy="360"/>
              <a:chOff x="4947840" y="2055960"/>
              <a:chExt cx="1124280" cy="360"/>
            </a:xfrm>
          </p:grpSpPr>
          <p:sp>
            <p:nvSpPr>
              <p:cNvPr id="1078" name="直接连接符 28"/>
              <p:cNvSpPr/>
              <p:nvPr/>
            </p:nvSpPr>
            <p:spPr>
              <a:xfrm>
                <a:off x="4947840" y="2055960"/>
                <a:ext cx="112428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 txBox="1"/>
              <p:nvPr/>
            </p:nvSpPr>
            <p:spPr>
              <a:xfrm>
                <a:off x="4947840" y="2055960"/>
                <a:ext cx="1124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0" name="组合 29"/>
          <p:cNvGrpSpPr/>
          <p:nvPr/>
        </p:nvGrpSpPr>
        <p:grpSpPr>
          <a:xfrm>
            <a:off x="7086600" y="912960"/>
            <a:ext cx="1128600" cy="1143360"/>
            <a:chOff x="7086600" y="912960"/>
            <a:chExt cx="1128600" cy="1143360"/>
          </a:xfrm>
        </p:grpSpPr>
        <p:sp>
          <p:nvSpPr>
            <p:cNvPr id="1081" name="TextBox 30"/>
            <p:cNvSpPr/>
            <p:nvPr/>
          </p:nvSpPr>
          <p:spPr>
            <a:xfrm>
              <a:off x="7086600" y="91296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 9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7143480" y="2055960"/>
              <a:ext cx="1071720" cy="360"/>
              <a:chOff x="7143480" y="2055960"/>
              <a:chExt cx="1071720" cy="360"/>
            </a:xfrm>
          </p:grpSpPr>
          <p:sp>
            <p:nvSpPr>
              <p:cNvPr id="1083" name="直接连接符 31"/>
              <p:cNvSpPr/>
              <p:nvPr/>
            </p:nvSpPr>
            <p:spPr>
              <a:xfrm>
                <a:off x="7143480" y="2055960"/>
                <a:ext cx="107172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 txBox="1"/>
              <p:nvPr/>
            </p:nvSpPr>
            <p:spPr>
              <a:xfrm>
                <a:off x="7143480" y="2055960"/>
                <a:ext cx="107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5" name="TextBox 15"/>
          <p:cNvSpPr/>
          <p:nvPr/>
        </p:nvSpPr>
        <p:spPr>
          <a:xfrm>
            <a:off x="285840" y="984240"/>
            <a:ext cx="5000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7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0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3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4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7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图片 3" descr="71.jpg"/>
          <p:cNvPicPr/>
          <p:nvPr/>
        </p:nvPicPr>
        <p:blipFill>
          <a:blip r:embed="rId1"/>
          <a:stretch/>
        </p:blipFill>
        <p:spPr>
          <a:xfrm>
            <a:off x="4967280" y="3022560"/>
            <a:ext cx="2033640" cy="57168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4" descr="68.jpg"/>
          <p:cNvPicPr/>
          <p:nvPr/>
        </p:nvPicPr>
        <p:blipFill>
          <a:blip r:embed="rId2"/>
          <a:stretch/>
        </p:blipFill>
        <p:spPr>
          <a:xfrm>
            <a:off x="1201680" y="1144440"/>
            <a:ext cx="1569960" cy="57168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5" descr="69.jpg"/>
          <p:cNvPicPr/>
          <p:nvPr/>
        </p:nvPicPr>
        <p:blipFill>
          <a:blip r:embed="rId3"/>
          <a:stretch/>
        </p:blipFill>
        <p:spPr>
          <a:xfrm>
            <a:off x="4929120" y="1144440"/>
            <a:ext cx="1584360" cy="571680"/>
          </a:xfrm>
          <a:prstGeom prst="rect">
            <a:avLst/>
          </a:prstGeom>
          <a:ln w="0">
            <a:noFill/>
          </a:ln>
        </p:spPr>
      </p:pic>
      <p:pic>
        <p:nvPicPr>
          <p:cNvPr id="1101" name="图片 6" descr="70.jpg"/>
          <p:cNvPicPr/>
          <p:nvPr/>
        </p:nvPicPr>
        <p:blipFill>
          <a:blip r:embed="rId4"/>
          <a:stretch/>
        </p:blipFill>
        <p:spPr>
          <a:xfrm>
            <a:off x="1252440" y="3022560"/>
            <a:ext cx="2033640" cy="571680"/>
          </a:xfrm>
          <a:prstGeom prst="rect">
            <a:avLst/>
          </a:prstGeom>
          <a:ln w="0">
            <a:noFill/>
          </a:ln>
        </p:spPr>
      </p:pic>
      <p:grpSp>
        <p:nvGrpSpPr>
          <p:cNvPr id="1102" name="组合 8"/>
          <p:cNvGrpSpPr/>
          <p:nvPr/>
        </p:nvGrpSpPr>
        <p:grpSpPr>
          <a:xfrm>
            <a:off x="1857240" y="716040"/>
            <a:ext cx="928800" cy="1308240"/>
            <a:chOff x="1857240" y="716040"/>
            <a:chExt cx="928800" cy="1308240"/>
          </a:xfrm>
        </p:grpSpPr>
        <p:sp>
          <p:nvSpPr>
            <p:cNvPr id="1103" name="TextBox 9"/>
            <p:cNvSpPr/>
            <p:nvPr/>
          </p:nvSpPr>
          <p:spPr>
            <a:xfrm>
              <a:off x="1857240" y="716040"/>
              <a:ext cx="914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 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1857240" y="2023920"/>
              <a:ext cx="928800" cy="360"/>
              <a:chOff x="1857240" y="2023920"/>
              <a:chExt cx="928800" cy="360"/>
            </a:xfrm>
          </p:grpSpPr>
          <p:sp>
            <p:nvSpPr>
              <p:cNvPr id="1105" name="直接连接符 10"/>
              <p:cNvSpPr/>
              <p:nvPr/>
            </p:nvSpPr>
            <p:spPr>
              <a:xfrm>
                <a:off x="1857240" y="2023920"/>
                <a:ext cx="92880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 txBox="1"/>
              <p:nvPr/>
            </p:nvSpPr>
            <p:spPr>
              <a:xfrm>
                <a:off x="1857240" y="2023920"/>
                <a:ext cx="928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7" name="组合 14"/>
          <p:cNvGrpSpPr/>
          <p:nvPr/>
        </p:nvGrpSpPr>
        <p:grpSpPr>
          <a:xfrm>
            <a:off x="5572080" y="716040"/>
            <a:ext cx="928800" cy="1308240"/>
            <a:chOff x="5572080" y="716040"/>
            <a:chExt cx="928800" cy="1308240"/>
          </a:xfrm>
        </p:grpSpPr>
        <p:sp>
          <p:nvSpPr>
            <p:cNvPr id="1108" name="TextBox 15"/>
            <p:cNvSpPr/>
            <p:nvPr/>
          </p:nvSpPr>
          <p:spPr>
            <a:xfrm>
              <a:off x="5572080" y="716040"/>
              <a:ext cx="914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"/>
            <p:cNvGrpSpPr/>
            <p:nvPr/>
          </p:nvGrpSpPr>
          <p:grpSpPr>
            <a:xfrm>
              <a:off x="5572080" y="2023920"/>
              <a:ext cx="928800" cy="360"/>
              <a:chOff x="5572080" y="2023920"/>
              <a:chExt cx="928800" cy="360"/>
            </a:xfrm>
          </p:grpSpPr>
          <p:sp>
            <p:nvSpPr>
              <p:cNvPr id="1110" name="直接连接符 16"/>
              <p:cNvSpPr/>
              <p:nvPr/>
            </p:nvSpPr>
            <p:spPr>
              <a:xfrm>
                <a:off x="5572080" y="2023920"/>
                <a:ext cx="92880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 txBox="1"/>
              <p:nvPr/>
            </p:nvSpPr>
            <p:spPr>
              <a:xfrm>
                <a:off x="5572080" y="2023920"/>
                <a:ext cx="928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2" name="组合 17"/>
          <p:cNvGrpSpPr/>
          <p:nvPr/>
        </p:nvGrpSpPr>
        <p:grpSpPr>
          <a:xfrm>
            <a:off x="1928880" y="2571840"/>
            <a:ext cx="1428840" cy="1346400"/>
            <a:chOff x="1928880" y="2571840"/>
            <a:chExt cx="1428840" cy="1346400"/>
          </a:xfrm>
        </p:grpSpPr>
        <p:sp>
          <p:nvSpPr>
            <p:cNvPr id="1113" name="TextBox 18"/>
            <p:cNvSpPr/>
            <p:nvPr/>
          </p:nvSpPr>
          <p:spPr>
            <a:xfrm>
              <a:off x="1928880" y="257184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  9  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"/>
            <p:cNvGrpSpPr/>
            <p:nvPr/>
          </p:nvGrpSpPr>
          <p:grpSpPr>
            <a:xfrm>
              <a:off x="1928880" y="3917880"/>
              <a:ext cx="1428840" cy="360"/>
              <a:chOff x="1928880" y="3917880"/>
              <a:chExt cx="1428840" cy="360"/>
            </a:xfrm>
          </p:grpSpPr>
          <p:sp>
            <p:nvSpPr>
              <p:cNvPr id="1115" name="直接连接符 19"/>
              <p:cNvSpPr/>
              <p:nvPr/>
            </p:nvSpPr>
            <p:spPr>
              <a:xfrm>
                <a:off x="1928880" y="3917880"/>
                <a:ext cx="142884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 txBox="1"/>
              <p:nvPr/>
            </p:nvSpPr>
            <p:spPr>
              <a:xfrm>
                <a:off x="1928880" y="3917880"/>
                <a:ext cx="142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7" name="组合 20"/>
          <p:cNvGrpSpPr/>
          <p:nvPr/>
        </p:nvGrpSpPr>
        <p:grpSpPr>
          <a:xfrm>
            <a:off x="5643720" y="2571840"/>
            <a:ext cx="1357200" cy="1346400"/>
            <a:chOff x="5643720" y="2571840"/>
            <a:chExt cx="1357200" cy="1346400"/>
          </a:xfrm>
        </p:grpSpPr>
        <p:sp>
          <p:nvSpPr>
            <p:cNvPr id="1118" name="TextBox 21"/>
            <p:cNvSpPr/>
            <p:nvPr/>
          </p:nvSpPr>
          <p:spPr>
            <a:xfrm>
              <a:off x="5643720" y="257184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 </a:t>
              </a: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9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5643720" y="3917880"/>
              <a:ext cx="1357200" cy="360"/>
              <a:chOff x="5643720" y="3917880"/>
              <a:chExt cx="1357200" cy="360"/>
            </a:xfrm>
          </p:grpSpPr>
          <p:sp>
            <p:nvSpPr>
              <p:cNvPr id="1120" name="直接连接符 22"/>
              <p:cNvSpPr/>
              <p:nvPr/>
            </p:nvSpPr>
            <p:spPr>
              <a:xfrm>
                <a:off x="5643720" y="3917880"/>
                <a:ext cx="135720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 txBox="1"/>
              <p:nvPr/>
            </p:nvSpPr>
            <p:spPr>
              <a:xfrm>
                <a:off x="5643720" y="3917880"/>
                <a:ext cx="13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28"/>
          <p:cNvGrpSpPr/>
          <p:nvPr/>
        </p:nvGrpSpPr>
        <p:grpSpPr>
          <a:xfrm>
            <a:off x="500040" y="4429080"/>
            <a:ext cx="8450280" cy="1143000"/>
            <a:chOff x="500040" y="4429080"/>
            <a:chExt cx="8450280" cy="1143000"/>
          </a:xfrm>
        </p:grpSpPr>
        <p:pic>
          <p:nvPicPr>
            <p:cNvPr id="1123" name="图片 27" descr="00.gif"/>
            <p:cNvPicPr/>
            <p:nvPr/>
          </p:nvPicPr>
          <p:blipFill>
            <a:blip r:embed="rId5"/>
            <a:stretch/>
          </p:blipFill>
          <p:spPr>
            <a:xfrm>
              <a:off x="7858440" y="4429080"/>
              <a:ext cx="10918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TextBox 25"/>
            <p:cNvSpPr/>
            <p:nvPr/>
          </p:nvSpPr>
          <p:spPr>
            <a:xfrm>
              <a:off x="500040" y="457164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刚才完成的几道题，除数的个位数分别是几？你把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它们看作多少来试商？如果商小了怎么办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圆角矩形标注 26"/>
            <p:cNvSpPr/>
            <p:nvPr/>
          </p:nvSpPr>
          <p:spPr>
            <a:xfrm>
              <a:off x="504360" y="4593960"/>
              <a:ext cx="7144200" cy="955800"/>
            </a:xfrm>
            <a:prstGeom prst="wedgeRoundRectCallout">
              <a:avLst>
                <a:gd name="adj1" fmla="val 53000"/>
                <a:gd name="adj2" fmla="val -2856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TextBox 15"/>
          <p:cNvSpPr/>
          <p:nvPr/>
        </p:nvSpPr>
        <p:spPr>
          <a:xfrm>
            <a:off x="428760" y="787320"/>
            <a:ext cx="5000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3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8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15"/>
          <p:cNvSpPr/>
          <p:nvPr/>
        </p:nvSpPr>
        <p:spPr>
          <a:xfrm>
            <a:off x="642960" y="1335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小结：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除数是两位数的除法，一般按照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“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四舍五入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”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法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     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把除数看作和它接近的整十数来试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4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1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99"/>
          <p:cNvSpPr/>
          <p:nvPr/>
        </p:nvSpPr>
        <p:spPr>
          <a:xfrm>
            <a:off x="293760" y="874800"/>
            <a:ext cx="86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学校组织四年级学生去秋游，老师和学生共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人，每辆客车限乘客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人，学校至少应该准备多少辆客车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文本框 2"/>
          <p:cNvSpPr/>
          <p:nvPr/>
        </p:nvSpPr>
        <p:spPr>
          <a:xfrm>
            <a:off x="806400" y="1892160"/>
            <a:ext cx="788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解：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10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÷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5 = 6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（车）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·····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（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 + 1 = 7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（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答：学校应该准备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辆客车。</a:t>
            </a:r>
            <a:r>
              <a:rPr b="0" lang="zh-CN" sz="13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7:42Z</dcterms:created>
  <dc:creator/>
  <dc:description/>
  <dc:language>en-US</dc:language>
  <cp:lastModifiedBy>万润仪器贸易公司</cp:lastModifiedBy>
  <dcterms:modified xsi:type="dcterms:W3CDTF">2020-08-21T08:59:33Z</dcterms:modified>
  <cp:revision>2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